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C57D-CB42-497E-9CDD-153AC8AF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0E5B-8DAB-474E-A90D-FA39FE36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4B6A-1B17-48AD-8C22-F7BC997F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8DB6-5433-447C-B486-6D81B9F05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75D0-567D-492F-B45B-71786D7E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D4BF-640A-4D3D-B690-F1D9B241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5DC5-5316-44F0-A64A-21671B80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8331-52DF-4D66-9B0D-8761F685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066B-0D5F-47F4-AFDE-594600F7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E6EA-98C2-49BE-9540-850B0755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D41F-7CC6-4CD6-90E9-8F7EE3CA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2D53-D5D9-4AF4-85CB-B1A8DB63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DC7F-919A-4636-AF65-CBE3CE31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E37D-C61D-415B-8F3C-2E48FD8C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D692-D61B-4478-8041-EDA82F85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A9B9-674B-4C53-ADEA-FC0FF28F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C94F-3883-4122-B554-F0C321AF3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39D6F-6E5A-4787-885E-F0FB71750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AA4DD-CFAE-44A6-8F0D-215F6BE9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1A32A-B1F3-4BA5-96D2-589534C7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C5C00-2F8B-4D62-A7F3-E7839FEC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67725-3DE4-4E2B-B328-41F6B465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8096-33A0-445B-9BC5-DF428159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22D1E-179D-4255-B17E-96EEA100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4C98E-3FFD-4D99-9296-01FD3820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DC8CF-64A1-483F-BC45-3696CA7E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3E605-127A-4AE3-8123-CE7A5D11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EEEE3-4CED-4D7F-AB49-379660D2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61EB8-4AD7-4842-B94E-E29E77C1E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A0988-397D-4324-9024-C24EEDEE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E3F16-EB34-4ECD-9DF0-D29E8E5A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EC254-0DA1-44C9-AA37-141D6C63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2FF26-BE41-4193-B6C4-76BCE6B9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B022-28B0-4873-9E97-673C824B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3970A-EF14-494D-A7BA-04BA8913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3DAA6-C276-46C7-815B-BAD7228E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D2979-82CB-417A-8317-65477761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B7656-B84F-4E6D-BDA9-7525A60A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B2F50-20B9-41D0-922F-F558F06C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3C8FF-4979-4765-96B1-276A16FC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751B5-F453-4E44-A748-85E590BA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B8042-D43E-48EC-9232-77F8AF95A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5B401-0708-4026-AED6-75D29831C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EC13-538D-401B-BC54-4E6FA6B5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6564-AF95-4CB7-9662-8D85736C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B84D-328B-4D92-9DAC-6A564522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B594-5AAF-4992-9C2F-E51DEE8A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DF26-2B50-4C60-920B-F01552DB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BB864F-73B3-4CFF-8B12-C00D5E914C8C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262134-E5E3-4EC9-A5BE-475AF147366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91B6D2-4ADE-4D7E-AC34-E7BFD0427372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977B6E-3FE2-4112-AA3B-471ED72D282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C90B61-2DC2-490C-B03A-4C9949FB9B33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55B2B4-4FE5-41FF-8DA7-92B6CBF7233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9D60E2-9B6B-48AB-8EDC-DCF1EC7DF871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4AC9C4-632E-4BBF-9D00-CFC049424F0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88320" cy="1957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 Yongmin Ch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W.N.C, A Solution to end the 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Arms Race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ducted in 1921 in Washinton D.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.K.A Post-war experiment at disarmame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ught to end the naval arms race between Britain, Japan and U.S by limiting of naval arma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jor Naval Powers Attend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77680" indent="-493560">
              <a:spcBef>
                <a:spcPts val="499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United Sta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77680" indent="-493560">
              <a:spcBef>
                <a:spcPts val="499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ritish Kingdo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77680" indent="-493560">
              <a:spcBef>
                <a:spcPts val="499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77680" indent="-493560">
              <a:spcBef>
                <a:spcPts val="499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taly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77680" indent="-493560">
              <a:spcBef>
                <a:spcPts val="499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Jap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Spirit of the Agre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intain Peace in the Pacif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duce burdens of armament in competi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merican delegates sought to end Japanese expan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did it accomplish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y Treaties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ur Power Trea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ve Power Treaty (Washington Naval Treaty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ine Power Trea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Summary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leets were limited in size and arma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ease battle ship produ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pen Door Policy (free trade) in Chin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mmediate Effec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om naval limitations, participating nations were able to save a lot of mone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lmed tensions in the Pacific and preserved peace in the 1920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itain and U.S. benefitted from abolition of Anglo – Japanese Allia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Problems of the Agreement and why it was not effectiv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re were loopholes; with excess funds, nations constructed smaller, more effective vessels that were not touched in the agre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ltimately enabled Rise of Japanese Empire as a naval power leading up to WWII, after Japan ended participation in 193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00:45:05Z</dcterms:created>
  <dc:creator>Yongmin Cho</dc:creator>
  <dc:description/>
  <dc:language>en-US</dc:language>
  <cp:lastModifiedBy>Yongmin Cho</cp:lastModifiedBy>
  <dcterms:modified xsi:type="dcterms:W3CDTF">2008-10-12T11:39:18Z</dcterms:modified>
  <cp:revision>23</cp:revision>
  <dc:subject/>
  <dc:title>Washington Naval Conference</dc:title>
</cp:coreProperties>
</file>